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B44-3F87-481A-8946-5D2014C7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958-B3B6-486D-BB1E-E8596491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D99-921C-4A39-AABE-FB8A15F5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F5B-B45A-4B50-AD0A-126FB743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97D-ED8B-4930-A43C-1098BEE5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D29-284B-4F98-96A2-79560C3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864-D007-4583-995F-FFE0050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68A-0DBB-426B-AF7A-6C6963C1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217-B373-40CD-BEAA-254227D4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73C-335A-45FC-81FF-D60D2666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2E3-B381-4349-B6CD-605B8DD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BAF-6402-4925-B1CC-75A85803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F8C1-C55D-41FC-A969-5443BC2944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22960" y="11916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4643280" y="1700280"/>
            <a:ext cx="485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六一儿童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Group 3" descr=""/>
          <p:cNvPicPr/>
          <p:nvPr/>
        </p:nvPicPr>
        <p:blipFill>
          <a:blip r:embed="rId1"/>
          <a:stretch/>
        </p:blipFill>
        <p:spPr>
          <a:xfrm>
            <a:off x="42840" y="1481040"/>
            <a:ext cx="3090960" cy="4078440"/>
          </a:xfrm>
          <a:prstGeom prst="rect">
            <a:avLst/>
          </a:prstGeom>
          <a:ln w="0">
            <a:noFill/>
          </a:ln>
        </p:spPr>
      </p:pic>
      <p:pic>
        <p:nvPicPr>
          <p:cNvPr id="185" name="Group 5" descr=""/>
          <p:cNvPicPr/>
          <p:nvPr/>
        </p:nvPicPr>
        <p:blipFill>
          <a:blip r:embed="rId2"/>
          <a:stretch/>
        </p:blipFill>
        <p:spPr>
          <a:xfrm>
            <a:off x="2627280" y="1987560"/>
            <a:ext cx="1981080" cy="2992320"/>
          </a:xfrm>
          <a:prstGeom prst="rect">
            <a:avLst/>
          </a:prstGeom>
          <a:ln w="0">
            <a:noFill/>
          </a:ln>
        </p:spPr>
      </p:pic>
      <p:pic>
        <p:nvPicPr>
          <p:cNvPr id="186" name="Group 7" descr=""/>
          <p:cNvPicPr/>
          <p:nvPr/>
        </p:nvPicPr>
        <p:blipFill>
          <a:blip r:embed="rId3"/>
          <a:stretch/>
        </p:blipFill>
        <p:spPr>
          <a:xfrm>
            <a:off x="4095720" y="1481040"/>
            <a:ext cx="3090960" cy="4078440"/>
          </a:xfrm>
          <a:prstGeom prst="rect">
            <a:avLst/>
          </a:prstGeom>
          <a:ln w="0">
            <a:noFill/>
          </a:ln>
        </p:spPr>
      </p:pic>
      <p:pic>
        <p:nvPicPr>
          <p:cNvPr id="187" name="Group 12" descr=""/>
          <p:cNvPicPr/>
          <p:nvPr/>
        </p:nvPicPr>
        <p:blipFill>
          <a:blip r:embed="rId4"/>
          <a:stretch/>
        </p:blipFill>
        <p:spPr>
          <a:xfrm>
            <a:off x="6681960" y="1987560"/>
            <a:ext cx="1981080" cy="29923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7212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5213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5"/>
          <p:cNvSpPr/>
          <p:nvPr/>
        </p:nvSpPr>
        <p:spPr>
          <a:xfrm>
            <a:off x="1141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54"/>
          <p:cNvGrpSpPr/>
          <p:nvPr/>
        </p:nvGrpSpPr>
        <p:grpSpPr>
          <a:xfrm>
            <a:off x="2340000" y="1773360"/>
            <a:ext cx="4922640" cy="2971800"/>
            <a:chOff x="2340000" y="1773360"/>
            <a:chExt cx="4922640" cy="2971800"/>
          </a:xfrm>
        </p:grpSpPr>
        <p:grpSp>
          <p:nvGrpSpPr>
            <p:cNvPr id="44" name="组合 25"/>
            <p:cNvGrpSpPr/>
            <p:nvPr/>
          </p:nvGrpSpPr>
          <p:grpSpPr>
            <a:xfrm>
              <a:off x="2633400" y="1832400"/>
              <a:ext cx="4174200" cy="467280"/>
              <a:chOff x="2633400" y="1832400"/>
              <a:chExt cx="4174200" cy="467280"/>
            </a:xfrm>
          </p:grpSpPr>
          <p:sp>
            <p:nvSpPr>
              <p:cNvPr id="45" name="矩形 42"/>
              <p:cNvSpPr/>
              <p:nvPr/>
            </p:nvSpPr>
            <p:spPr>
              <a:xfrm>
                <a:off x="2633400" y="1832400"/>
                <a:ext cx="4173840" cy="467280"/>
              </a:xfrm>
              <a:prstGeom prst="rect">
                <a:avLst/>
              </a:prstGeom>
              <a:solidFill>
                <a:srgbClr val="7f7f7f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27"/>
              <p:cNvSpPr/>
              <p:nvPr/>
            </p:nvSpPr>
            <p:spPr>
              <a:xfrm>
                <a:off x="2633400" y="1832760"/>
                <a:ext cx="417420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44"/>
              <p:cNvSpPr/>
              <p:nvPr/>
            </p:nvSpPr>
            <p:spPr>
              <a:xfrm>
                <a:off x="2664720" y="1854720"/>
                <a:ext cx="4118760" cy="417240"/>
              </a:xfrm>
              <a:prstGeom prst="rect">
                <a:avLst/>
              </a:prstGeom>
              <a:solidFill>
                <a:srgbClr val="fa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29"/>
            <p:cNvGrpSpPr/>
            <p:nvPr/>
          </p:nvGrpSpPr>
          <p:grpSpPr>
            <a:xfrm>
              <a:off x="2936520" y="2428920"/>
              <a:ext cx="4175640" cy="467280"/>
              <a:chOff x="2936520" y="2428920"/>
              <a:chExt cx="4175640" cy="467280"/>
            </a:xfrm>
          </p:grpSpPr>
          <p:sp>
            <p:nvSpPr>
              <p:cNvPr id="49" name="矩形 39"/>
              <p:cNvSpPr/>
              <p:nvPr/>
            </p:nvSpPr>
            <p:spPr>
              <a:xfrm>
                <a:off x="2936880" y="2428920"/>
                <a:ext cx="4175280" cy="4669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矩形 31"/>
              <p:cNvSpPr/>
              <p:nvPr/>
            </p:nvSpPr>
            <p:spPr>
              <a:xfrm>
                <a:off x="2936520" y="2428920"/>
                <a:ext cx="417564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矩形 41"/>
              <p:cNvSpPr/>
              <p:nvPr/>
            </p:nvSpPr>
            <p:spPr>
              <a:xfrm>
                <a:off x="2967840" y="2450520"/>
                <a:ext cx="4120920" cy="417960"/>
              </a:xfrm>
              <a:prstGeom prst="rect">
                <a:avLst/>
              </a:prstGeom>
              <a:solidFill>
                <a:srgbClr val="fa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组合 33"/>
            <p:cNvGrpSpPr/>
            <p:nvPr/>
          </p:nvGrpSpPr>
          <p:grpSpPr>
            <a:xfrm>
              <a:off x="2936520" y="3622320"/>
              <a:ext cx="4175640" cy="467280"/>
              <a:chOff x="2936520" y="3622320"/>
              <a:chExt cx="4175640" cy="467280"/>
            </a:xfrm>
          </p:grpSpPr>
          <p:sp>
            <p:nvSpPr>
              <p:cNvPr id="53" name="矩形 37"/>
              <p:cNvSpPr/>
              <p:nvPr/>
            </p:nvSpPr>
            <p:spPr>
              <a:xfrm>
                <a:off x="2936880" y="3623040"/>
                <a:ext cx="4174920" cy="46656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矩形 38"/>
              <p:cNvSpPr/>
              <p:nvPr/>
            </p:nvSpPr>
            <p:spPr>
              <a:xfrm>
                <a:off x="2936520" y="3622320"/>
                <a:ext cx="4175640" cy="467280"/>
              </a:xfrm>
              <a:prstGeom prst="rect">
                <a:avLst/>
              </a:prstGeom>
              <a:solidFill>
                <a:srgbClr val="fa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矩形 15"/>
            <p:cNvSpPr/>
            <p:nvPr/>
          </p:nvSpPr>
          <p:spPr>
            <a:xfrm>
              <a:off x="2633400" y="4218120"/>
              <a:ext cx="4173480" cy="4698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6"/>
            <p:cNvSpPr/>
            <p:nvPr/>
          </p:nvSpPr>
          <p:spPr>
            <a:xfrm>
              <a:off x="2633400" y="4218120"/>
              <a:ext cx="4173480" cy="4698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6080" rIns="60840" tIns="60840" bIns="608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zh-CN" sz="2400" spc="-1" strike="noStrike">
                  <a:solidFill>
                    <a:srgbClr val="646464"/>
                  </a:solidFill>
                  <a:latin typeface="Calibri"/>
                  <a:ea typeface="微软雅黑"/>
                </a:rPr>
                <a:t>单击此处添加文字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7"/>
            <p:cNvSpPr/>
            <p:nvPr/>
          </p:nvSpPr>
          <p:spPr>
            <a:xfrm>
              <a:off x="2664720" y="4240080"/>
              <a:ext cx="4118400" cy="419760"/>
            </a:xfrm>
            <a:prstGeom prst="rect">
              <a:avLst/>
            </a:prstGeom>
            <a:solidFill>
              <a:srgbClr val="fa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组合 41"/>
            <p:cNvGrpSpPr/>
            <p:nvPr/>
          </p:nvGrpSpPr>
          <p:grpSpPr>
            <a:xfrm>
              <a:off x="3087000" y="3025440"/>
              <a:ext cx="4175640" cy="467280"/>
              <a:chOff x="3087000" y="3025440"/>
              <a:chExt cx="4175640" cy="467280"/>
            </a:xfrm>
          </p:grpSpPr>
          <p:sp>
            <p:nvSpPr>
              <p:cNvPr id="59" name="矩形 34"/>
              <p:cNvSpPr/>
              <p:nvPr/>
            </p:nvSpPr>
            <p:spPr>
              <a:xfrm>
                <a:off x="3087000" y="3025440"/>
                <a:ext cx="4175640" cy="4672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矩形 35"/>
              <p:cNvSpPr/>
              <p:nvPr/>
            </p:nvSpPr>
            <p:spPr>
              <a:xfrm>
                <a:off x="3087000" y="3025440"/>
                <a:ext cx="4175640" cy="4672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矩形 36"/>
              <p:cNvSpPr/>
              <p:nvPr/>
            </p:nvSpPr>
            <p:spPr>
              <a:xfrm>
                <a:off x="3117600" y="3046680"/>
                <a:ext cx="4121280" cy="418680"/>
              </a:xfrm>
              <a:prstGeom prst="rect">
                <a:avLst/>
              </a:prstGeom>
              <a:solidFill>
                <a:srgbClr val="fa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组合 45"/>
            <p:cNvGrpSpPr/>
            <p:nvPr/>
          </p:nvGrpSpPr>
          <p:grpSpPr>
            <a:xfrm>
              <a:off x="2340000" y="1773360"/>
              <a:ext cx="585720" cy="584280"/>
              <a:chOff x="2340000" y="1773360"/>
              <a:chExt cx="585720" cy="584280"/>
            </a:xfrm>
          </p:grpSpPr>
          <p:sp>
            <p:nvSpPr>
              <p:cNvPr id="63" name="椭圆 32"/>
              <p:cNvSpPr/>
              <p:nvPr/>
            </p:nvSpPr>
            <p:spPr>
              <a:xfrm>
                <a:off x="2340000" y="1773360"/>
                <a:ext cx="585720" cy="584280"/>
              </a:xfrm>
              <a:prstGeom prst="ellipse">
                <a:avLst/>
              </a:prstGeom>
              <a:solidFill>
                <a:srgbClr val="d03b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2398680" y="1782720"/>
                <a:ext cx="461880" cy="2253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组合 48"/>
            <p:cNvGrpSpPr/>
            <p:nvPr/>
          </p:nvGrpSpPr>
          <p:grpSpPr>
            <a:xfrm>
              <a:off x="2644200" y="2369880"/>
              <a:ext cx="584280" cy="585720"/>
              <a:chOff x="2644200" y="2369880"/>
              <a:chExt cx="584280" cy="585720"/>
            </a:xfrm>
          </p:grpSpPr>
          <p:sp>
            <p:nvSpPr>
              <p:cNvPr id="66" name="椭圆 30"/>
              <p:cNvSpPr/>
              <p:nvPr/>
            </p:nvSpPr>
            <p:spPr>
              <a:xfrm>
                <a:off x="2644200" y="2369880"/>
                <a:ext cx="584280" cy="585720"/>
              </a:xfrm>
              <a:prstGeom prst="ellipse">
                <a:avLst/>
              </a:prstGeom>
              <a:solidFill>
                <a:srgbClr val="d03b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2704320" y="2379240"/>
                <a:ext cx="459000" cy="22860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组合 51"/>
            <p:cNvGrpSpPr/>
            <p:nvPr/>
          </p:nvGrpSpPr>
          <p:grpSpPr>
            <a:xfrm>
              <a:off x="2644200" y="3564360"/>
              <a:ext cx="584280" cy="584280"/>
              <a:chOff x="2644200" y="3564360"/>
              <a:chExt cx="584280" cy="584280"/>
            </a:xfrm>
          </p:grpSpPr>
          <p:sp>
            <p:nvSpPr>
              <p:cNvPr id="69" name="椭圆 28"/>
              <p:cNvSpPr/>
              <p:nvPr/>
            </p:nvSpPr>
            <p:spPr>
              <a:xfrm>
                <a:off x="2644200" y="3564360"/>
                <a:ext cx="584280" cy="584280"/>
              </a:xfrm>
              <a:prstGeom prst="ellipse">
                <a:avLst/>
              </a:prstGeom>
              <a:solidFill>
                <a:srgbClr val="d03b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2704320" y="3573720"/>
                <a:ext cx="459000" cy="2271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组合 54"/>
            <p:cNvGrpSpPr/>
            <p:nvPr/>
          </p:nvGrpSpPr>
          <p:grpSpPr>
            <a:xfrm>
              <a:off x="2340000" y="4160880"/>
              <a:ext cx="585720" cy="584280"/>
              <a:chOff x="2340000" y="4160880"/>
              <a:chExt cx="585720" cy="584280"/>
            </a:xfrm>
          </p:grpSpPr>
          <p:sp>
            <p:nvSpPr>
              <p:cNvPr id="72" name="椭圆 26"/>
              <p:cNvSpPr/>
              <p:nvPr/>
            </p:nvSpPr>
            <p:spPr>
              <a:xfrm>
                <a:off x="2340000" y="4160880"/>
                <a:ext cx="585720" cy="584280"/>
              </a:xfrm>
              <a:prstGeom prst="ellipse">
                <a:avLst/>
              </a:prstGeom>
              <a:solidFill>
                <a:srgbClr val="d03b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2398680" y="4170240"/>
                <a:ext cx="461880" cy="2253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组合 57"/>
            <p:cNvGrpSpPr/>
            <p:nvPr/>
          </p:nvGrpSpPr>
          <p:grpSpPr>
            <a:xfrm>
              <a:off x="2795040" y="2966400"/>
              <a:ext cx="584280" cy="585720"/>
              <a:chOff x="2795040" y="2966400"/>
              <a:chExt cx="584280" cy="585720"/>
            </a:xfrm>
          </p:grpSpPr>
          <p:sp>
            <p:nvSpPr>
              <p:cNvPr id="75" name="椭圆 24"/>
              <p:cNvSpPr/>
              <p:nvPr/>
            </p:nvSpPr>
            <p:spPr>
              <a:xfrm>
                <a:off x="2795040" y="2966400"/>
                <a:ext cx="584280" cy="585720"/>
              </a:xfrm>
              <a:prstGeom prst="ellipse">
                <a:avLst/>
              </a:prstGeom>
              <a:solidFill>
                <a:srgbClr val="d03b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2855160" y="2975760"/>
                <a:ext cx="459000" cy="22752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0"/>
          <p:cNvSpPr/>
          <p:nvPr/>
        </p:nvSpPr>
        <p:spPr>
          <a:xfrm>
            <a:off x="4062960" y="4292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420732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4278600" y="306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5" descr="2.png"/>
          <p:cNvPicPr/>
          <p:nvPr/>
        </p:nvPicPr>
        <p:blipFill>
          <a:blip r:embed="rId1"/>
          <a:stretch/>
        </p:blipFill>
        <p:spPr>
          <a:xfrm>
            <a:off x="4500720" y="3552840"/>
            <a:ext cx="4552920" cy="2036880"/>
          </a:xfrm>
          <a:prstGeom prst="rect">
            <a:avLst/>
          </a:prstGeom>
          <a:ln w="0">
            <a:noFill/>
          </a:ln>
        </p:spPr>
      </p:pic>
      <p:sp>
        <p:nvSpPr>
          <p:cNvPr id="86" name="矩形 12"/>
          <p:cNvSpPr/>
          <p:nvPr/>
        </p:nvSpPr>
        <p:spPr>
          <a:xfrm>
            <a:off x="4500720" y="1552680"/>
            <a:ext cx="3881160" cy="2020680"/>
          </a:xfrm>
          <a:prstGeom prst="rect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468360" y="3568680"/>
            <a:ext cx="4041720" cy="2021040"/>
          </a:xfrm>
          <a:prstGeom prst="rect">
            <a:avLst/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622332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759320" y="4292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4" descr="1.png"/>
          <p:cNvPicPr/>
          <p:nvPr/>
        </p:nvPicPr>
        <p:blipFill>
          <a:blip r:embed="rId2"/>
          <a:stretch/>
        </p:blipFill>
        <p:spPr>
          <a:xfrm>
            <a:off x="-36360" y="1536840"/>
            <a:ext cx="455292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0" descr="3.png"/>
          <p:cNvPicPr/>
          <p:nvPr/>
        </p:nvPicPr>
        <p:blipFill>
          <a:blip r:embed="rId1"/>
          <a:stretch/>
        </p:blipFill>
        <p:spPr>
          <a:xfrm>
            <a:off x="4962600" y="1700280"/>
            <a:ext cx="3674880" cy="29685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图片2.png"/>
          <p:cNvPicPr/>
          <p:nvPr/>
        </p:nvPicPr>
        <p:blipFill>
          <a:blip r:embed="rId2"/>
          <a:stretch/>
        </p:blipFill>
        <p:spPr>
          <a:xfrm>
            <a:off x="468360" y="1700280"/>
            <a:ext cx="3674880" cy="296856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icture Placeholder 5"/>
          <p:cNvSpPr/>
          <p:nvPr/>
        </p:nvSpPr>
        <p:spPr>
          <a:xfrm>
            <a:off x="1231920" y="4743360"/>
            <a:ext cx="2908440" cy="1133640"/>
          </a:xfrm>
          <a:prstGeom prst="rect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icture Placeholder 5"/>
          <p:cNvSpPr/>
          <p:nvPr/>
        </p:nvSpPr>
        <p:spPr>
          <a:xfrm>
            <a:off x="5940360" y="4724280"/>
            <a:ext cx="2706840" cy="1135080"/>
          </a:xfrm>
          <a:prstGeom prst="rect">
            <a:avLst/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694260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219132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6598080" y="364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1038600" y="314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菱形 8"/>
          <p:cNvSpPr/>
          <p:nvPr/>
        </p:nvSpPr>
        <p:spPr>
          <a:xfrm>
            <a:off x="5311800" y="3586320"/>
            <a:ext cx="517680" cy="517320"/>
          </a:xfrm>
          <a:prstGeom prst="diamond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5829480" y="2281320"/>
            <a:ext cx="2165040" cy="30240"/>
          </a:xfrm>
          <a:prstGeom prst="rect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0"/>
          <p:cNvSpPr/>
          <p:nvPr/>
        </p:nvSpPr>
        <p:spPr>
          <a:xfrm>
            <a:off x="6256440" y="3998880"/>
            <a:ext cx="2163600" cy="30240"/>
          </a:xfrm>
          <a:prstGeom prst="rect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1"/>
          <p:cNvSpPr/>
          <p:nvPr/>
        </p:nvSpPr>
        <p:spPr>
          <a:xfrm>
            <a:off x="687240" y="3497400"/>
            <a:ext cx="2163960" cy="31680"/>
          </a:xfrm>
          <a:prstGeom prst="rect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2"/>
          <p:cNvSpPr/>
          <p:nvPr/>
        </p:nvSpPr>
        <p:spPr>
          <a:xfrm flipH="1">
            <a:off x="7912080" y="1992240"/>
            <a:ext cx="316080" cy="304920"/>
          </a:xfrm>
          <a:custGeom>
            <a:avLst/>
            <a:gdLst/>
            <a:ahLst/>
            <a:rect l="l" t="t" r="r" b="b"/>
            <a:pathLst>
              <a:path w="749688" h="720000">
                <a:moveTo>
                  <a:pt x="388270" y="196450"/>
                </a:moveTo>
                <a:cubicBezTo>
                  <a:pt x="476602" y="196450"/>
                  <a:pt x="550212" y="270086"/>
                  <a:pt x="550212" y="358450"/>
                </a:cubicBezTo>
                <a:cubicBezTo>
                  <a:pt x="550212" y="448286"/>
                  <a:pt x="476602" y="520450"/>
                  <a:pt x="388270" y="520450"/>
                </a:cubicBezTo>
                <a:cubicBezTo>
                  <a:pt x="298465" y="520450"/>
                  <a:pt x="226327" y="448286"/>
                  <a:pt x="226327" y="358450"/>
                </a:cubicBezTo>
                <a:cubicBezTo>
                  <a:pt x="226327" y="339305"/>
                  <a:pt x="229271" y="320159"/>
                  <a:pt x="236632" y="302486"/>
                </a:cubicBezTo>
                <a:lnTo>
                  <a:pt x="242521" y="306905"/>
                </a:lnTo>
                <a:cubicBezTo>
                  <a:pt x="269021" y="293650"/>
                  <a:pt x="269021" y="293650"/>
                  <a:pt x="269021" y="293650"/>
                </a:cubicBezTo>
                <a:cubicBezTo>
                  <a:pt x="280799" y="301014"/>
                  <a:pt x="280799" y="301014"/>
                  <a:pt x="280799" y="301014"/>
                </a:cubicBezTo>
                <a:cubicBezTo>
                  <a:pt x="270493" y="317214"/>
                  <a:pt x="264604" y="337832"/>
                  <a:pt x="264604" y="358450"/>
                </a:cubicBezTo>
                <a:cubicBezTo>
                  <a:pt x="264604" y="426196"/>
                  <a:pt x="320548" y="482159"/>
                  <a:pt x="388270" y="482159"/>
                </a:cubicBezTo>
                <a:cubicBezTo>
                  <a:pt x="454519" y="482159"/>
                  <a:pt x="510463" y="426196"/>
                  <a:pt x="510463" y="358450"/>
                </a:cubicBezTo>
                <a:cubicBezTo>
                  <a:pt x="510463" y="290705"/>
                  <a:pt x="454519" y="236214"/>
                  <a:pt x="388270" y="236214"/>
                </a:cubicBezTo>
                <a:cubicBezTo>
                  <a:pt x="348520" y="236214"/>
                  <a:pt x="314659" y="253886"/>
                  <a:pt x="292576" y="281868"/>
                </a:cubicBezTo>
                <a:cubicBezTo>
                  <a:pt x="311715" y="295123"/>
                  <a:pt x="311715" y="295123"/>
                  <a:pt x="311715" y="295123"/>
                </a:cubicBezTo>
                <a:cubicBezTo>
                  <a:pt x="329381" y="273032"/>
                  <a:pt x="357353" y="258305"/>
                  <a:pt x="388270" y="258305"/>
                </a:cubicBezTo>
                <a:cubicBezTo>
                  <a:pt x="442741" y="258305"/>
                  <a:pt x="486907" y="303959"/>
                  <a:pt x="486907" y="358450"/>
                </a:cubicBezTo>
                <a:cubicBezTo>
                  <a:pt x="486907" y="414414"/>
                  <a:pt x="442741" y="458596"/>
                  <a:pt x="388270" y="458596"/>
                </a:cubicBezTo>
                <a:cubicBezTo>
                  <a:pt x="332326" y="458596"/>
                  <a:pt x="288160" y="414414"/>
                  <a:pt x="288160" y="358450"/>
                </a:cubicBezTo>
                <a:cubicBezTo>
                  <a:pt x="288160" y="342250"/>
                  <a:pt x="291104" y="326050"/>
                  <a:pt x="298465" y="312796"/>
                </a:cubicBezTo>
                <a:cubicBezTo>
                  <a:pt x="330854" y="333414"/>
                  <a:pt x="330854" y="333414"/>
                  <a:pt x="330854" y="333414"/>
                </a:cubicBezTo>
                <a:cubicBezTo>
                  <a:pt x="327909" y="340777"/>
                  <a:pt x="324965" y="349614"/>
                  <a:pt x="324965" y="358450"/>
                </a:cubicBezTo>
                <a:cubicBezTo>
                  <a:pt x="324965" y="393796"/>
                  <a:pt x="352937" y="421777"/>
                  <a:pt x="388270" y="421777"/>
                </a:cubicBezTo>
                <a:cubicBezTo>
                  <a:pt x="422130" y="421777"/>
                  <a:pt x="450102" y="393796"/>
                  <a:pt x="450102" y="358450"/>
                </a:cubicBezTo>
                <a:cubicBezTo>
                  <a:pt x="450102" y="324577"/>
                  <a:pt x="422130" y="296596"/>
                  <a:pt x="388270" y="296596"/>
                </a:cubicBezTo>
                <a:cubicBezTo>
                  <a:pt x="370603" y="296596"/>
                  <a:pt x="354409" y="303959"/>
                  <a:pt x="342631" y="315741"/>
                </a:cubicBezTo>
                <a:cubicBezTo>
                  <a:pt x="364714" y="328996"/>
                  <a:pt x="364714" y="328996"/>
                  <a:pt x="364714" y="328996"/>
                </a:cubicBezTo>
                <a:cubicBezTo>
                  <a:pt x="370603" y="324577"/>
                  <a:pt x="379436" y="321632"/>
                  <a:pt x="388270" y="321632"/>
                </a:cubicBezTo>
                <a:cubicBezTo>
                  <a:pt x="408880" y="321632"/>
                  <a:pt x="425075" y="337832"/>
                  <a:pt x="425075" y="358450"/>
                </a:cubicBezTo>
                <a:cubicBezTo>
                  <a:pt x="425075" y="379068"/>
                  <a:pt x="408880" y="396741"/>
                  <a:pt x="388270" y="396741"/>
                </a:cubicBezTo>
                <a:cubicBezTo>
                  <a:pt x="366187" y="396741"/>
                  <a:pt x="349992" y="379068"/>
                  <a:pt x="349992" y="358450"/>
                </a:cubicBezTo>
                <a:cubicBezTo>
                  <a:pt x="349992" y="355505"/>
                  <a:pt x="351464" y="351086"/>
                  <a:pt x="351464" y="348141"/>
                </a:cubicBezTo>
                <a:cubicBezTo>
                  <a:pt x="382381" y="367286"/>
                  <a:pt x="382381" y="367286"/>
                  <a:pt x="382381" y="367286"/>
                </a:cubicBezTo>
                <a:cubicBezTo>
                  <a:pt x="386797" y="361396"/>
                  <a:pt x="386797" y="361396"/>
                  <a:pt x="386797" y="361396"/>
                </a:cubicBezTo>
                <a:cubicBezTo>
                  <a:pt x="267549" y="281868"/>
                  <a:pt x="267549" y="281868"/>
                  <a:pt x="267549" y="281868"/>
                </a:cubicBezTo>
                <a:cubicBezTo>
                  <a:pt x="238105" y="295123"/>
                  <a:pt x="238105" y="295123"/>
                  <a:pt x="238105" y="295123"/>
                </a:cubicBezTo>
                <a:cubicBezTo>
                  <a:pt x="190994" y="264196"/>
                  <a:pt x="190994" y="264196"/>
                  <a:pt x="190994" y="264196"/>
                </a:cubicBezTo>
                <a:cubicBezTo>
                  <a:pt x="220438" y="250941"/>
                  <a:pt x="220438" y="250941"/>
                  <a:pt x="220438" y="250941"/>
                </a:cubicBezTo>
                <a:cubicBezTo>
                  <a:pt x="211605" y="246523"/>
                  <a:pt x="211605" y="246523"/>
                  <a:pt x="211605" y="246523"/>
                </a:cubicBezTo>
                <a:cubicBezTo>
                  <a:pt x="218966" y="234741"/>
                  <a:pt x="218966" y="234741"/>
                  <a:pt x="218966" y="234741"/>
                </a:cubicBezTo>
                <a:cubicBezTo>
                  <a:pt x="227799" y="239159"/>
                  <a:pt x="227799" y="239159"/>
                  <a:pt x="227799" y="239159"/>
                </a:cubicBezTo>
                <a:cubicBezTo>
                  <a:pt x="227799" y="208232"/>
                  <a:pt x="227799" y="208232"/>
                  <a:pt x="227799" y="208232"/>
                </a:cubicBezTo>
                <a:cubicBezTo>
                  <a:pt x="274910" y="239159"/>
                  <a:pt x="274910" y="239159"/>
                  <a:pt x="274910" y="239159"/>
                </a:cubicBezTo>
                <a:cubicBezTo>
                  <a:pt x="274910" y="270086"/>
                  <a:pt x="274910" y="270086"/>
                  <a:pt x="274910" y="270086"/>
                </a:cubicBezTo>
                <a:cubicBezTo>
                  <a:pt x="285215" y="277450"/>
                  <a:pt x="285215" y="277450"/>
                  <a:pt x="285215" y="277450"/>
                </a:cubicBezTo>
                <a:cubicBezTo>
                  <a:pt x="285215" y="242105"/>
                  <a:pt x="285215" y="242105"/>
                  <a:pt x="285215" y="242105"/>
                </a:cubicBezTo>
                <a:cubicBezTo>
                  <a:pt x="280799" y="237686"/>
                  <a:pt x="280799" y="237686"/>
                  <a:pt x="280799" y="237686"/>
                </a:cubicBezTo>
                <a:cubicBezTo>
                  <a:pt x="308771" y="212650"/>
                  <a:pt x="347048" y="196450"/>
                  <a:pt x="388270" y="196450"/>
                </a:cubicBezTo>
                <a:close/>
                <a:moveTo>
                  <a:pt x="374844" y="0"/>
                </a:moveTo>
                <a:lnTo>
                  <a:pt x="0" y="360000"/>
                </a:lnTo>
                <a:lnTo>
                  <a:pt x="374844" y="720000"/>
                </a:lnTo>
                <a:lnTo>
                  <a:pt x="749688" y="360000"/>
                </a:lnTo>
                <a:close/>
              </a:path>
            </a:pathLst>
          </a:cu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3"/>
          <p:cNvSpPr/>
          <p:nvPr/>
        </p:nvSpPr>
        <p:spPr>
          <a:xfrm flipH="1">
            <a:off x="467640" y="3192480"/>
            <a:ext cx="315720" cy="303120"/>
          </a:xfrm>
          <a:custGeom>
            <a:avLst/>
            <a:gdLst/>
            <a:ahLst/>
            <a:rect l="l" t="t" r="r" b="b"/>
            <a:pathLst>
              <a:path w="749688" h="720000">
                <a:moveTo>
                  <a:pt x="388270" y="196450"/>
                </a:moveTo>
                <a:cubicBezTo>
                  <a:pt x="476602" y="196450"/>
                  <a:pt x="550212" y="270086"/>
                  <a:pt x="550212" y="358450"/>
                </a:cubicBezTo>
                <a:cubicBezTo>
                  <a:pt x="550212" y="448286"/>
                  <a:pt x="476602" y="520450"/>
                  <a:pt x="388270" y="520450"/>
                </a:cubicBezTo>
                <a:cubicBezTo>
                  <a:pt x="298465" y="520450"/>
                  <a:pt x="226327" y="448286"/>
                  <a:pt x="226327" y="358450"/>
                </a:cubicBezTo>
                <a:cubicBezTo>
                  <a:pt x="226327" y="339305"/>
                  <a:pt x="229271" y="320159"/>
                  <a:pt x="236632" y="302486"/>
                </a:cubicBezTo>
                <a:lnTo>
                  <a:pt x="242521" y="306905"/>
                </a:lnTo>
                <a:cubicBezTo>
                  <a:pt x="269021" y="293650"/>
                  <a:pt x="269021" y="293650"/>
                  <a:pt x="269021" y="293650"/>
                </a:cubicBezTo>
                <a:cubicBezTo>
                  <a:pt x="280799" y="301014"/>
                  <a:pt x="280799" y="301014"/>
                  <a:pt x="280799" y="301014"/>
                </a:cubicBezTo>
                <a:cubicBezTo>
                  <a:pt x="270493" y="317214"/>
                  <a:pt x="264604" y="337832"/>
                  <a:pt x="264604" y="358450"/>
                </a:cubicBezTo>
                <a:cubicBezTo>
                  <a:pt x="264604" y="426196"/>
                  <a:pt x="320548" y="482159"/>
                  <a:pt x="388270" y="482159"/>
                </a:cubicBezTo>
                <a:cubicBezTo>
                  <a:pt x="454519" y="482159"/>
                  <a:pt x="510463" y="426196"/>
                  <a:pt x="510463" y="358450"/>
                </a:cubicBezTo>
                <a:cubicBezTo>
                  <a:pt x="510463" y="290705"/>
                  <a:pt x="454519" y="236214"/>
                  <a:pt x="388270" y="236214"/>
                </a:cubicBezTo>
                <a:cubicBezTo>
                  <a:pt x="348520" y="236214"/>
                  <a:pt x="314659" y="253886"/>
                  <a:pt x="292576" y="281868"/>
                </a:cubicBezTo>
                <a:cubicBezTo>
                  <a:pt x="311715" y="295123"/>
                  <a:pt x="311715" y="295123"/>
                  <a:pt x="311715" y="295123"/>
                </a:cubicBezTo>
                <a:cubicBezTo>
                  <a:pt x="329381" y="273032"/>
                  <a:pt x="357353" y="258305"/>
                  <a:pt x="388270" y="258305"/>
                </a:cubicBezTo>
                <a:cubicBezTo>
                  <a:pt x="442741" y="258305"/>
                  <a:pt x="486907" y="303959"/>
                  <a:pt x="486907" y="358450"/>
                </a:cubicBezTo>
                <a:cubicBezTo>
                  <a:pt x="486907" y="414414"/>
                  <a:pt x="442741" y="458596"/>
                  <a:pt x="388270" y="458596"/>
                </a:cubicBezTo>
                <a:cubicBezTo>
                  <a:pt x="332326" y="458596"/>
                  <a:pt x="288160" y="414414"/>
                  <a:pt x="288160" y="358450"/>
                </a:cubicBezTo>
                <a:cubicBezTo>
                  <a:pt x="288160" y="342250"/>
                  <a:pt x="291104" y="326050"/>
                  <a:pt x="298465" y="312796"/>
                </a:cubicBezTo>
                <a:cubicBezTo>
                  <a:pt x="330854" y="333414"/>
                  <a:pt x="330854" y="333414"/>
                  <a:pt x="330854" y="333414"/>
                </a:cubicBezTo>
                <a:cubicBezTo>
                  <a:pt x="327909" y="340777"/>
                  <a:pt x="324965" y="349614"/>
                  <a:pt x="324965" y="358450"/>
                </a:cubicBezTo>
                <a:cubicBezTo>
                  <a:pt x="324965" y="393796"/>
                  <a:pt x="352937" y="421777"/>
                  <a:pt x="388270" y="421777"/>
                </a:cubicBezTo>
                <a:cubicBezTo>
                  <a:pt x="422130" y="421777"/>
                  <a:pt x="450102" y="393796"/>
                  <a:pt x="450102" y="358450"/>
                </a:cubicBezTo>
                <a:cubicBezTo>
                  <a:pt x="450102" y="324577"/>
                  <a:pt x="422130" y="296596"/>
                  <a:pt x="388270" y="296596"/>
                </a:cubicBezTo>
                <a:cubicBezTo>
                  <a:pt x="370603" y="296596"/>
                  <a:pt x="354409" y="303959"/>
                  <a:pt x="342631" y="315741"/>
                </a:cubicBezTo>
                <a:cubicBezTo>
                  <a:pt x="364714" y="328996"/>
                  <a:pt x="364714" y="328996"/>
                  <a:pt x="364714" y="328996"/>
                </a:cubicBezTo>
                <a:cubicBezTo>
                  <a:pt x="370603" y="324577"/>
                  <a:pt x="379436" y="321632"/>
                  <a:pt x="388270" y="321632"/>
                </a:cubicBezTo>
                <a:cubicBezTo>
                  <a:pt x="408880" y="321632"/>
                  <a:pt x="425075" y="337832"/>
                  <a:pt x="425075" y="358450"/>
                </a:cubicBezTo>
                <a:cubicBezTo>
                  <a:pt x="425075" y="379068"/>
                  <a:pt x="408880" y="396741"/>
                  <a:pt x="388270" y="396741"/>
                </a:cubicBezTo>
                <a:cubicBezTo>
                  <a:pt x="366187" y="396741"/>
                  <a:pt x="349992" y="379068"/>
                  <a:pt x="349992" y="358450"/>
                </a:cubicBezTo>
                <a:cubicBezTo>
                  <a:pt x="349992" y="355505"/>
                  <a:pt x="351464" y="351086"/>
                  <a:pt x="351464" y="348141"/>
                </a:cubicBezTo>
                <a:cubicBezTo>
                  <a:pt x="382381" y="367286"/>
                  <a:pt x="382381" y="367286"/>
                  <a:pt x="382381" y="367286"/>
                </a:cubicBezTo>
                <a:cubicBezTo>
                  <a:pt x="386797" y="361396"/>
                  <a:pt x="386797" y="361396"/>
                  <a:pt x="386797" y="361396"/>
                </a:cubicBezTo>
                <a:cubicBezTo>
                  <a:pt x="267549" y="281868"/>
                  <a:pt x="267549" y="281868"/>
                  <a:pt x="267549" y="281868"/>
                </a:cubicBezTo>
                <a:cubicBezTo>
                  <a:pt x="238105" y="295123"/>
                  <a:pt x="238105" y="295123"/>
                  <a:pt x="238105" y="295123"/>
                </a:cubicBezTo>
                <a:cubicBezTo>
                  <a:pt x="190994" y="264196"/>
                  <a:pt x="190994" y="264196"/>
                  <a:pt x="190994" y="264196"/>
                </a:cubicBezTo>
                <a:cubicBezTo>
                  <a:pt x="220438" y="250941"/>
                  <a:pt x="220438" y="250941"/>
                  <a:pt x="220438" y="250941"/>
                </a:cubicBezTo>
                <a:cubicBezTo>
                  <a:pt x="211605" y="246523"/>
                  <a:pt x="211605" y="246523"/>
                  <a:pt x="211605" y="246523"/>
                </a:cubicBezTo>
                <a:cubicBezTo>
                  <a:pt x="218966" y="234741"/>
                  <a:pt x="218966" y="234741"/>
                  <a:pt x="218966" y="234741"/>
                </a:cubicBezTo>
                <a:cubicBezTo>
                  <a:pt x="227799" y="239159"/>
                  <a:pt x="227799" y="239159"/>
                  <a:pt x="227799" y="239159"/>
                </a:cubicBezTo>
                <a:cubicBezTo>
                  <a:pt x="227799" y="208232"/>
                  <a:pt x="227799" y="208232"/>
                  <a:pt x="227799" y="208232"/>
                </a:cubicBezTo>
                <a:cubicBezTo>
                  <a:pt x="274910" y="239159"/>
                  <a:pt x="274910" y="239159"/>
                  <a:pt x="274910" y="239159"/>
                </a:cubicBezTo>
                <a:cubicBezTo>
                  <a:pt x="274910" y="270086"/>
                  <a:pt x="274910" y="270086"/>
                  <a:pt x="274910" y="270086"/>
                </a:cubicBezTo>
                <a:cubicBezTo>
                  <a:pt x="285215" y="277450"/>
                  <a:pt x="285215" y="277450"/>
                  <a:pt x="285215" y="277450"/>
                </a:cubicBezTo>
                <a:cubicBezTo>
                  <a:pt x="285215" y="242105"/>
                  <a:pt x="285215" y="242105"/>
                  <a:pt x="285215" y="242105"/>
                </a:cubicBezTo>
                <a:cubicBezTo>
                  <a:pt x="280799" y="237686"/>
                  <a:pt x="280799" y="237686"/>
                  <a:pt x="280799" y="237686"/>
                </a:cubicBezTo>
                <a:cubicBezTo>
                  <a:pt x="308771" y="212650"/>
                  <a:pt x="347048" y="196450"/>
                  <a:pt x="388270" y="196450"/>
                </a:cubicBezTo>
                <a:close/>
                <a:moveTo>
                  <a:pt x="374844" y="0"/>
                </a:moveTo>
                <a:lnTo>
                  <a:pt x="0" y="360000"/>
                </a:lnTo>
                <a:lnTo>
                  <a:pt x="374844" y="720000"/>
                </a:lnTo>
                <a:lnTo>
                  <a:pt x="749688" y="360000"/>
                </a:lnTo>
                <a:close/>
              </a:path>
            </a:pathLst>
          </a:cu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629496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17"/>
          <p:cNvSpPr/>
          <p:nvPr/>
        </p:nvSpPr>
        <p:spPr>
          <a:xfrm flipH="1">
            <a:off x="8388360" y="3716280"/>
            <a:ext cx="316080" cy="304920"/>
          </a:xfrm>
          <a:custGeom>
            <a:avLst/>
            <a:gdLst/>
            <a:ahLst/>
            <a:rect l="l" t="t" r="r" b="b"/>
            <a:pathLst>
              <a:path w="749688" h="720000">
                <a:moveTo>
                  <a:pt x="388270" y="196450"/>
                </a:moveTo>
                <a:cubicBezTo>
                  <a:pt x="476602" y="196450"/>
                  <a:pt x="550212" y="270086"/>
                  <a:pt x="550212" y="358450"/>
                </a:cubicBezTo>
                <a:cubicBezTo>
                  <a:pt x="550212" y="448286"/>
                  <a:pt x="476602" y="520450"/>
                  <a:pt x="388270" y="520450"/>
                </a:cubicBezTo>
                <a:cubicBezTo>
                  <a:pt x="298465" y="520450"/>
                  <a:pt x="226327" y="448286"/>
                  <a:pt x="226327" y="358450"/>
                </a:cubicBezTo>
                <a:cubicBezTo>
                  <a:pt x="226327" y="339305"/>
                  <a:pt x="229271" y="320159"/>
                  <a:pt x="236632" y="302486"/>
                </a:cubicBezTo>
                <a:lnTo>
                  <a:pt x="242521" y="306905"/>
                </a:lnTo>
                <a:cubicBezTo>
                  <a:pt x="269021" y="293650"/>
                  <a:pt x="269021" y="293650"/>
                  <a:pt x="269021" y="293650"/>
                </a:cubicBezTo>
                <a:cubicBezTo>
                  <a:pt x="280799" y="301014"/>
                  <a:pt x="280799" y="301014"/>
                  <a:pt x="280799" y="301014"/>
                </a:cubicBezTo>
                <a:cubicBezTo>
                  <a:pt x="270493" y="317214"/>
                  <a:pt x="264604" y="337832"/>
                  <a:pt x="264604" y="358450"/>
                </a:cubicBezTo>
                <a:cubicBezTo>
                  <a:pt x="264604" y="426196"/>
                  <a:pt x="320548" y="482159"/>
                  <a:pt x="388270" y="482159"/>
                </a:cubicBezTo>
                <a:cubicBezTo>
                  <a:pt x="454519" y="482159"/>
                  <a:pt x="510463" y="426196"/>
                  <a:pt x="510463" y="358450"/>
                </a:cubicBezTo>
                <a:cubicBezTo>
                  <a:pt x="510463" y="290705"/>
                  <a:pt x="454519" y="236214"/>
                  <a:pt x="388270" y="236214"/>
                </a:cubicBezTo>
                <a:cubicBezTo>
                  <a:pt x="348520" y="236214"/>
                  <a:pt x="314659" y="253886"/>
                  <a:pt x="292576" y="281868"/>
                </a:cubicBezTo>
                <a:cubicBezTo>
                  <a:pt x="311715" y="295123"/>
                  <a:pt x="311715" y="295123"/>
                  <a:pt x="311715" y="295123"/>
                </a:cubicBezTo>
                <a:cubicBezTo>
                  <a:pt x="329381" y="273032"/>
                  <a:pt x="357353" y="258305"/>
                  <a:pt x="388270" y="258305"/>
                </a:cubicBezTo>
                <a:cubicBezTo>
                  <a:pt x="442741" y="258305"/>
                  <a:pt x="486907" y="303959"/>
                  <a:pt x="486907" y="358450"/>
                </a:cubicBezTo>
                <a:cubicBezTo>
                  <a:pt x="486907" y="414414"/>
                  <a:pt x="442741" y="458596"/>
                  <a:pt x="388270" y="458596"/>
                </a:cubicBezTo>
                <a:cubicBezTo>
                  <a:pt x="332326" y="458596"/>
                  <a:pt x="288160" y="414414"/>
                  <a:pt x="288160" y="358450"/>
                </a:cubicBezTo>
                <a:cubicBezTo>
                  <a:pt x="288160" y="342250"/>
                  <a:pt x="291104" y="326050"/>
                  <a:pt x="298465" y="312796"/>
                </a:cubicBezTo>
                <a:cubicBezTo>
                  <a:pt x="330854" y="333414"/>
                  <a:pt x="330854" y="333414"/>
                  <a:pt x="330854" y="333414"/>
                </a:cubicBezTo>
                <a:cubicBezTo>
                  <a:pt x="327909" y="340777"/>
                  <a:pt x="324965" y="349614"/>
                  <a:pt x="324965" y="358450"/>
                </a:cubicBezTo>
                <a:cubicBezTo>
                  <a:pt x="324965" y="393796"/>
                  <a:pt x="352937" y="421777"/>
                  <a:pt x="388270" y="421777"/>
                </a:cubicBezTo>
                <a:cubicBezTo>
                  <a:pt x="422130" y="421777"/>
                  <a:pt x="450102" y="393796"/>
                  <a:pt x="450102" y="358450"/>
                </a:cubicBezTo>
                <a:cubicBezTo>
                  <a:pt x="450102" y="324577"/>
                  <a:pt x="422130" y="296596"/>
                  <a:pt x="388270" y="296596"/>
                </a:cubicBezTo>
                <a:cubicBezTo>
                  <a:pt x="370603" y="296596"/>
                  <a:pt x="354409" y="303959"/>
                  <a:pt x="342631" y="315741"/>
                </a:cubicBezTo>
                <a:cubicBezTo>
                  <a:pt x="364714" y="328996"/>
                  <a:pt x="364714" y="328996"/>
                  <a:pt x="364714" y="328996"/>
                </a:cubicBezTo>
                <a:cubicBezTo>
                  <a:pt x="370603" y="324577"/>
                  <a:pt x="379436" y="321632"/>
                  <a:pt x="388270" y="321632"/>
                </a:cubicBezTo>
                <a:cubicBezTo>
                  <a:pt x="408880" y="321632"/>
                  <a:pt x="425075" y="337832"/>
                  <a:pt x="425075" y="358450"/>
                </a:cubicBezTo>
                <a:cubicBezTo>
                  <a:pt x="425075" y="379068"/>
                  <a:pt x="408880" y="396741"/>
                  <a:pt x="388270" y="396741"/>
                </a:cubicBezTo>
                <a:cubicBezTo>
                  <a:pt x="366187" y="396741"/>
                  <a:pt x="349992" y="379068"/>
                  <a:pt x="349992" y="358450"/>
                </a:cubicBezTo>
                <a:cubicBezTo>
                  <a:pt x="349992" y="355505"/>
                  <a:pt x="351464" y="351086"/>
                  <a:pt x="351464" y="348141"/>
                </a:cubicBezTo>
                <a:cubicBezTo>
                  <a:pt x="382381" y="367286"/>
                  <a:pt x="382381" y="367286"/>
                  <a:pt x="382381" y="367286"/>
                </a:cubicBezTo>
                <a:cubicBezTo>
                  <a:pt x="386797" y="361396"/>
                  <a:pt x="386797" y="361396"/>
                  <a:pt x="386797" y="361396"/>
                </a:cubicBezTo>
                <a:cubicBezTo>
                  <a:pt x="267549" y="281868"/>
                  <a:pt x="267549" y="281868"/>
                  <a:pt x="267549" y="281868"/>
                </a:cubicBezTo>
                <a:cubicBezTo>
                  <a:pt x="238105" y="295123"/>
                  <a:pt x="238105" y="295123"/>
                  <a:pt x="238105" y="295123"/>
                </a:cubicBezTo>
                <a:cubicBezTo>
                  <a:pt x="190994" y="264196"/>
                  <a:pt x="190994" y="264196"/>
                  <a:pt x="190994" y="264196"/>
                </a:cubicBezTo>
                <a:cubicBezTo>
                  <a:pt x="220438" y="250941"/>
                  <a:pt x="220438" y="250941"/>
                  <a:pt x="220438" y="250941"/>
                </a:cubicBezTo>
                <a:cubicBezTo>
                  <a:pt x="211605" y="246523"/>
                  <a:pt x="211605" y="246523"/>
                  <a:pt x="211605" y="246523"/>
                </a:cubicBezTo>
                <a:cubicBezTo>
                  <a:pt x="218966" y="234741"/>
                  <a:pt x="218966" y="234741"/>
                  <a:pt x="218966" y="234741"/>
                </a:cubicBezTo>
                <a:cubicBezTo>
                  <a:pt x="227799" y="239159"/>
                  <a:pt x="227799" y="239159"/>
                  <a:pt x="227799" y="239159"/>
                </a:cubicBezTo>
                <a:cubicBezTo>
                  <a:pt x="227799" y="208232"/>
                  <a:pt x="227799" y="208232"/>
                  <a:pt x="227799" y="208232"/>
                </a:cubicBezTo>
                <a:cubicBezTo>
                  <a:pt x="274910" y="239159"/>
                  <a:pt x="274910" y="239159"/>
                  <a:pt x="274910" y="239159"/>
                </a:cubicBezTo>
                <a:cubicBezTo>
                  <a:pt x="274910" y="270086"/>
                  <a:pt x="274910" y="270086"/>
                  <a:pt x="274910" y="270086"/>
                </a:cubicBezTo>
                <a:cubicBezTo>
                  <a:pt x="285215" y="277450"/>
                  <a:pt x="285215" y="277450"/>
                  <a:pt x="285215" y="277450"/>
                </a:cubicBezTo>
                <a:cubicBezTo>
                  <a:pt x="285215" y="242105"/>
                  <a:pt x="285215" y="242105"/>
                  <a:pt x="285215" y="242105"/>
                </a:cubicBezTo>
                <a:cubicBezTo>
                  <a:pt x="280799" y="237686"/>
                  <a:pt x="280799" y="237686"/>
                  <a:pt x="280799" y="237686"/>
                </a:cubicBezTo>
                <a:cubicBezTo>
                  <a:pt x="308771" y="212650"/>
                  <a:pt x="347048" y="196450"/>
                  <a:pt x="388270" y="196450"/>
                </a:cubicBezTo>
                <a:close/>
                <a:moveTo>
                  <a:pt x="374844" y="0"/>
                </a:moveTo>
                <a:lnTo>
                  <a:pt x="0" y="360000"/>
                </a:lnTo>
                <a:lnTo>
                  <a:pt x="374844" y="720000"/>
                </a:lnTo>
                <a:lnTo>
                  <a:pt x="749688" y="360000"/>
                </a:lnTo>
                <a:close/>
              </a:path>
            </a:pathLst>
          </a:cu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987640" y="1700280"/>
            <a:ext cx="2808360" cy="3960720"/>
          </a:xfrm>
          <a:prstGeom prst="rect">
            <a:avLst/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7"/>
          <p:cNvSpPr/>
          <p:nvPr/>
        </p:nvSpPr>
        <p:spPr>
          <a:xfrm>
            <a:off x="2071800" y="1697040"/>
            <a:ext cx="2286000" cy="1285920"/>
          </a:xfrm>
          <a:prstGeom prst="rect">
            <a:avLst/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占位符 1" descr=""/>
          <p:cNvPicPr/>
          <p:nvPr/>
        </p:nvPicPr>
        <p:blipFill>
          <a:blip r:embed="rId1"/>
          <a:srcRect l="14474" t="0" r="14474" b="0"/>
          <a:stretch/>
        </p:blipFill>
        <p:spPr>
          <a:xfrm>
            <a:off x="1262160" y="1322280"/>
            <a:ext cx="1554120" cy="2071800"/>
          </a:xfrm>
          <a:prstGeom prst="rect">
            <a:avLst/>
          </a:prstGeom>
          <a:ln w="0">
            <a:noFill/>
          </a:ln>
        </p:spPr>
      </p:pic>
      <p:sp>
        <p:nvSpPr>
          <p:cNvPr id="125" name="矩形 9"/>
          <p:cNvSpPr/>
          <p:nvPr/>
        </p:nvSpPr>
        <p:spPr>
          <a:xfrm>
            <a:off x="2071800" y="4070520"/>
            <a:ext cx="2286000" cy="1285560"/>
          </a:xfrm>
          <a:prstGeom prst="rect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5786280" y="1698480"/>
            <a:ext cx="2286000" cy="1285920"/>
          </a:xfrm>
          <a:prstGeom prst="rect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占位符 1" descr=""/>
          <p:cNvPicPr/>
          <p:nvPr/>
        </p:nvPicPr>
        <p:blipFill>
          <a:blip r:embed="rId2"/>
          <a:srcRect l="14474" t="0" r="14474" b="0"/>
          <a:stretch/>
        </p:blipFill>
        <p:spPr>
          <a:xfrm>
            <a:off x="4976640" y="1324080"/>
            <a:ext cx="1554480" cy="2070000"/>
          </a:xfrm>
          <a:prstGeom prst="rect">
            <a:avLst/>
          </a:prstGeom>
          <a:ln w="0">
            <a:noFill/>
          </a:ln>
        </p:spPr>
      </p:pic>
      <p:sp>
        <p:nvSpPr>
          <p:cNvPr id="128" name="矩形 12"/>
          <p:cNvSpPr/>
          <p:nvPr/>
        </p:nvSpPr>
        <p:spPr>
          <a:xfrm>
            <a:off x="5786280" y="4071960"/>
            <a:ext cx="2286000" cy="1285920"/>
          </a:xfrm>
          <a:prstGeom prst="rect">
            <a:avLst/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6855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6855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占位符 1" descr=""/>
          <p:cNvPicPr/>
          <p:nvPr/>
        </p:nvPicPr>
        <p:blipFill>
          <a:blip r:embed="rId3"/>
          <a:srcRect l="14474" t="0" r="14474" b="0"/>
          <a:stretch/>
        </p:blipFill>
        <p:spPr>
          <a:xfrm>
            <a:off x="1305000" y="3714840"/>
            <a:ext cx="1552680" cy="20700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占位符 1" descr=""/>
          <p:cNvPicPr/>
          <p:nvPr/>
        </p:nvPicPr>
        <p:blipFill>
          <a:blip r:embed="rId4"/>
          <a:srcRect l="14474" t="0" r="14474" b="0"/>
          <a:stretch/>
        </p:blipFill>
        <p:spPr>
          <a:xfrm>
            <a:off x="5019840" y="3716280"/>
            <a:ext cx="1552320" cy="2070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786200" y="3714840"/>
            <a:ext cx="3571920" cy="662040"/>
          </a:xfrm>
          <a:prstGeom prst="rect">
            <a:avLst/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4786200" y="4376880"/>
            <a:ext cx="3571920" cy="1573200"/>
          </a:xfrm>
          <a:prstGeom prst="rect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6426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占位符 1" descr=""/>
          <p:cNvPicPr/>
          <p:nvPr/>
        </p:nvPicPr>
        <p:blipFill>
          <a:blip r:embed="rId1"/>
          <a:srcRect l="0" t="17477" r="0" b="17477"/>
          <a:stretch/>
        </p:blipFill>
        <p:spPr>
          <a:xfrm>
            <a:off x="785880" y="1571760"/>
            <a:ext cx="3865320" cy="2235240"/>
          </a:xfrm>
          <a:prstGeom prst="rect">
            <a:avLst/>
          </a:prstGeom>
          <a:ln w="0">
            <a:noFill/>
          </a:ln>
        </p:spPr>
      </p:pic>
      <p:sp>
        <p:nvSpPr>
          <p:cNvPr id="149" name="矩形 14"/>
          <p:cNvSpPr/>
          <p:nvPr/>
        </p:nvSpPr>
        <p:spPr>
          <a:xfrm>
            <a:off x="571680" y="1571760"/>
            <a:ext cx="4143240" cy="2286000"/>
          </a:xfrm>
          <a:prstGeom prst="rect">
            <a:avLst/>
          </a:prstGeom>
          <a:solidFill>
            <a:srgbClr val="d03b13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3140640" y="3362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7283880" y="343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5069520" y="343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>
            <a:off x="925920" y="3219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836640" y="2552760"/>
            <a:ext cx="1346040" cy="1474560"/>
          </a:xfrm>
          <a:prstGeom prst="ellipse">
            <a:avLst/>
          </a:prstGeom>
          <a:noFill/>
          <a:ln w="38160">
            <a:solidFill>
              <a:srgbClr val="d03b1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143000" y="2349360"/>
            <a:ext cx="731880" cy="706680"/>
          </a:xfrm>
          <a:prstGeom prst="pie">
            <a:avLst/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2943360" y="2552760"/>
            <a:ext cx="1344600" cy="1474560"/>
          </a:xfrm>
          <a:prstGeom prst="ellipse">
            <a:avLst/>
          </a:prstGeom>
          <a:noFill/>
          <a:ln w="38160">
            <a:solidFill>
              <a:srgbClr val="fa931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3249720" y="2349360"/>
            <a:ext cx="731880" cy="706680"/>
          </a:xfrm>
          <a:prstGeom prst="pie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5048280" y="2552760"/>
            <a:ext cx="1346040" cy="1474560"/>
          </a:xfrm>
          <a:prstGeom prst="ellipse">
            <a:avLst/>
          </a:prstGeom>
          <a:noFill/>
          <a:ln w="38160">
            <a:solidFill>
              <a:srgbClr val="d03b1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>
            <a:off x="5356080" y="2349360"/>
            <a:ext cx="731880" cy="706680"/>
          </a:xfrm>
          <a:prstGeom prst="pie">
            <a:avLst/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7155000" y="2552760"/>
            <a:ext cx="1346040" cy="1474560"/>
          </a:xfrm>
          <a:prstGeom prst="ellipse">
            <a:avLst/>
          </a:prstGeom>
          <a:noFill/>
          <a:ln w="38160">
            <a:solidFill>
              <a:srgbClr val="fa931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"/>
          <p:cNvSpPr/>
          <p:nvPr/>
        </p:nvSpPr>
        <p:spPr>
          <a:xfrm>
            <a:off x="7462800" y="2349360"/>
            <a:ext cx="730440" cy="706680"/>
          </a:xfrm>
          <a:prstGeom prst="pie">
            <a:avLst/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3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2173320" y="1557360"/>
            <a:ext cx="2446200" cy="169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38160">
            <a:solidFill>
              <a:srgbClr val="d03b13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6"/>
          <p:cNvSpPr/>
          <p:nvPr/>
        </p:nvSpPr>
        <p:spPr>
          <a:xfrm>
            <a:off x="2309760" y="1285920"/>
            <a:ext cx="2174760" cy="474480"/>
          </a:xfrm>
          <a:prstGeom prst="roundRect">
            <a:avLst>
              <a:gd name="adj" fmla="val 50000"/>
            </a:avLst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4863960" y="1557360"/>
            <a:ext cx="2446560" cy="169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38160">
            <a:solidFill>
              <a:srgbClr val="fa931d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5000760" y="1285920"/>
            <a:ext cx="2174760" cy="474480"/>
          </a:xfrm>
          <a:prstGeom prst="roundRect">
            <a:avLst>
              <a:gd name="adj" fmla="val 50000"/>
            </a:avLst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2220840" y="3843360"/>
            <a:ext cx="2446560" cy="169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38160">
            <a:solidFill>
              <a:srgbClr val="fa931d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2357280" y="3571920"/>
            <a:ext cx="2175120" cy="474480"/>
          </a:xfrm>
          <a:prstGeom prst="roundRect">
            <a:avLst>
              <a:gd name="adj" fmla="val 50000"/>
            </a:avLst>
          </a:prstGeom>
          <a:solidFill>
            <a:srgbClr val="fa9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4911840" y="3843360"/>
            <a:ext cx="2446200" cy="169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38160">
            <a:solidFill>
              <a:srgbClr val="d03b13"/>
            </a:solidFill>
            <a:miter/>
          </a:ln>
          <a:effectLst>
            <a:outerShdw dist="63504" dir="31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5048280" y="3571920"/>
            <a:ext cx="2174760" cy="474480"/>
          </a:xfrm>
          <a:prstGeom prst="roundRect">
            <a:avLst>
              <a:gd name="adj" fmla="val 50000"/>
            </a:avLst>
          </a:prstGeom>
          <a:solidFill>
            <a:srgbClr val="d0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2"/>
          <p:cNvSpPr/>
          <p:nvPr/>
        </p:nvSpPr>
        <p:spPr>
          <a:xfrm>
            <a:off x="29991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2926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5-03T09:02:43Z</dcterms:modified>
  <cp:revision>310</cp:revision>
  <dc:subject/>
  <dc:title>幻灯片 1</dc:title>
</cp:coreProperties>
</file>